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6E831-2ED4-4324-9740-BFC4D9972B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1680" y="1776240"/>
            <a:ext cx="77374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1680" y="3814560"/>
            <a:ext cx="77374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60EA5-60C2-4680-8C1D-2311186699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1680" y="1776240"/>
            <a:ext cx="3775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6360" y="1776240"/>
            <a:ext cx="3775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61680" y="3814560"/>
            <a:ext cx="3775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6360" y="3814560"/>
            <a:ext cx="3775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CDD94-0BD4-4AF3-AD73-E19E7C8058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1680" y="1776240"/>
            <a:ext cx="24912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7800" y="1776240"/>
            <a:ext cx="24912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93920" y="1776240"/>
            <a:ext cx="24912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61680" y="3814560"/>
            <a:ext cx="24912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7800" y="3814560"/>
            <a:ext cx="24912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93920" y="3814560"/>
            <a:ext cx="24912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2FCCF-8EFC-4D8D-939A-630E6A282E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EEDDA-5A61-4369-8A2D-C76A5AFBBF8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F0E07-DB82-45DD-8500-0780AE57AC2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89FF6-14CF-4C61-BE9D-11BAC92341F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61680" y="1776240"/>
            <a:ext cx="3775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26360" y="1776240"/>
            <a:ext cx="3775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36598-AAE6-4CA0-A4A8-B83C161DD46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2D321-9EC4-4A7F-82DB-3A51CFCF1A2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1F5ED-B777-4376-86FA-3B01F912750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61680" y="1776240"/>
            <a:ext cx="3775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26360" y="1776240"/>
            <a:ext cx="3775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61680" y="3814560"/>
            <a:ext cx="3775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DFA1F-A7E8-4C5C-A36C-50C016A857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121B0-EFCB-4EB7-ACD1-20B6305B2B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61680" y="1776240"/>
            <a:ext cx="3775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26360" y="1776240"/>
            <a:ext cx="3775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26360" y="3814560"/>
            <a:ext cx="3775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1CBB7-1E77-4C69-81FF-041083D8404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61680" y="1776240"/>
            <a:ext cx="3775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26360" y="1776240"/>
            <a:ext cx="3775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61680" y="3814560"/>
            <a:ext cx="77374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E990F-40C5-45C1-839E-3FED54A8FFD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1680" y="1776240"/>
            <a:ext cx="77374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61680" y="3814560"/>
            <a:ext cx="77374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E9F5B-0C7B-4DE3-A16E-0C199A79C15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61680" y="1776240"/>
            <a:ext cx="3775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26360" y="1776240"/>
            <a:ext cx="3775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61680" y="3814560"/>
            <a:ext cx="3775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26360" y="3814560"/>
            <a:ext cx="3775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A12B5-2F2F-4080-8B4D-B9440F37E62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1680" y="1776240"/>
            <a:ext cx="24912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7800" y="1776240"/>
            <a:ext cx="24912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93920" y="1776240"/>
            <a:ext cx="24912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61680" y="3814560"/>
            <a:ext cx="24912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7800" y="3814560"/>
            <a:ext cx="24912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93920" y="3814560"/>
            <a:ext cx="249120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852E1-3175-4273-98ED-B9BCB0C55A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DDD39-D13A-423B-89A5-EE54A6C43A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61680" y="1776240"/>
            <a:ext cx="3775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6360" y="1776240"/>
            <a:ext cx="3775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09B3A-ECC6-41FE-A790-8FA4C0B41E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BCA35-D7D1-4413-A9A6-F5605FA2AA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D4690-7283-4208-AF0C-B75EE50DAD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61680" y="1776240"/>
            <a:ext cx="3775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6360" y="1776240"/>
            <a:ext cx="3775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1680" y="3814560"/>
            <a:ext cx="3775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25DED-2263-42F9-8B7F-5EC0387E65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61680" y="1776240"/>
            <a:ext cx="3775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6360" y="1776240"/>
            <a:ext cx="3775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6360" y="3814560"/>
            <a:ext cx="3775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15F1C-A618-42A8-B891-C1B84F3DB6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1680" y="1776240"/>
            <a:ext cx="3775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6360" y="1776240"/>
            <a:ext cx="3775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1680" y="3814560"/>
            <a:ext cx="77374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8E395-9869-4665-A3F4-9739DD8178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523880" y="6286680"/>
            <a:ext cx="7620120" cy="571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067D6-A544-4CC8-992E-4764AEEC64F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’s New in Modeling at Eclipse  |  © 2006 by Borland, IBM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762012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523880" y="6286680"/>
            <a:ext cx="762012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Borland, IBM; made available under the EPL v1.0 |  October 11, 2006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7620120" cy="7621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7920" algn="ctr"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clipse.org/gmt/oaw" TargetMode="External"/><Relationship Id="rId2" Type="http://schemas.openxmlformats.org/officeDocument/2006/relationships/hyperlink" Target="http://www.eclipse.org/proposals/m2m/" TargetMode="Externa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’s New in Modeling at Eclip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849840" y="2695680"/>
            <a:ext cx="4889520" cy="336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8CE43-AAE7-4603-9269-3647F9A6523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GMF Runtime Overview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61680" y="1775880"/>
            <a:ext cx="8326440" cy="44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mework for the development of Eclipse graphical edit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 infrastructure that bridges EMF and GE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ollection of reusable compon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 bars, connection handles, compartments, toolbar, action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tandardized model to describe diagram 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antic (domain) and diagram models are distin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s open and extensible graphical editors, with service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rage various other technolog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F Transaction, EMF Validation, MDT OCL, Apache Bat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e runtime option also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86041-3824-44E8-B43B-19C1B46D07E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GMF Tooling Overview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06440" y="1371600"/>
            <a:ext cx="8385120" cy="492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64343-29F9-4BA2-935B-8D9F7E1364D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Graphical Modeling Framework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on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4DCC5-4A76-45CD-8939-7834A98466F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References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lipse Modeling Project (EMP) websit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clipse.org/modeling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lipse Modeling Framework (EMF) websit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clipse.org/em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ical Modeling Framework (GMF) website </a:t>
            </a:r>
            <a:r>
              <a:rPr b="0" lang="en-US" sz="16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http://www.eclipse.org/gm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 Development Tools (MDT) website    </a:t>
            </a:r>
            <a:r>
              <a:rPr b="0" lang="en-US" sz="1600" spc="-1" strike="noStrike" u="sng">
                <a:solidFill>
                  <a:srgbClr val="c0c0c0"/>
                </a:solidFill>
                <a:uFillTx/>
                <a:latin typeface="Arial"/>
                <a:hlinkClick r:id="rId2"/>
              </a:rPr>
              <a:t>http://www.eclipse.org/md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ArchitectureWare (oAW) website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clipse.org/gmt/oaw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-To-Model Transformation propos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clipse.org/proposals/m2m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252C2-E033-4695-A273-08FA4C17565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Legal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E196B-1ABF-4339-89E0-6AE530DA8D9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lipse Modeling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 Development Tools (MDT)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-to-Model Transformation (M2M) project propo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lipse Modeling Framework (EM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mon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ical Modeling Framework (GM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mon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B6F6A-2A2A-4188-B00C-E7776A20F18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Eclipse Modeling Projec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top-level project at Eclip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ved 04/19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MC is co-lead by IBM &amp; Bor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sioning still in prog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Eclipse Modeling Project focuses on the evolution and promotion of model-based development technologies within the Eclipse community by providing a unified set of modeling frameworks, tooling, and standards implementations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C32A3-9FC7-43C7-9606-5577A572500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Modeling Project Organization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zed around these aspects of Model-Driven Developm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40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 Syntax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rete Syntax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-to-Model 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-to-Text 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 Development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ve Modeling Technology 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1EAE7-AB57-4726-8BB1-F156A30C7DB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Before and After the Modeling projec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95200" y="1811160"/>
            <a:ext cx="3514680" cy="35150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762440" y="1595520"/>
            <a:ext cx="4043520" cy="441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64268-A753-4133-A29A-6918699F676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Model Development Tools (MDT)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ed Creation Review on Sept. 27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designed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implementations of industry standard metamod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exemplary tools for developing models based on th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compon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ML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F-based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agram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S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ODM (Ontology Definition Meta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A81DC-4198-42FB-99EE-555C444A456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Model-to-Model Transformation (M2M) Projec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61680" y="1775880"/>
            <a:ext cx="7737480" cy="42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al posted: currently “gathering communit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ware is the proposed project l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2M project will deliver an extensible framework for model-to-model transformation langua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rst exemplary implementation will be for the QVT Core language, using EMF and MDT’s O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ngine will execute the Core language in either interpreted or compiled 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, the M2M project will provide an implementation of the QVT Relations language, based on the QVT Core execution engine, EMF and OC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83318-897B-4B30-8118-F3EC98CFEA6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Eclipse Modeling Framework (EMF)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on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844DA-D36B-4FDE-932F-443BA6F5A7C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Graphical Modeling Framework (GMF)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Eclipse Graphical Modeling Framework (GMF) provides a generative component and runtime infrastructure for developing graphical editors based on EMF and GEF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sion 1.0 released in June with Callis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main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465880" y="3770280"/>
            <a:ext cx="2933640" cy="113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628DE-A261-497D-8DBF-82361B6EFD2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ichard Gronback</dc:creator>
  <dc:description/>
  <cp:keywords/>
  <dc:language>en-US</dc:language>
  <cp:lastModifiedBy>Richard Gronback</cp:lastModifiedBy>
  <dcterms:modified xsi:type="dcterms:W3CDTF">2006-10-11T20:49:31Z</dcterms:modified>
  <cp:revision>20</cp:revision>
  <dc:subject>Eclipse Modeling Project</dc:subject>
  <dc:title>What's new in Modeling at Eclipse</dc:title>
</cp:coreProperties>
</file>