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CD6F2-95F3-4211-9A52-759B0B9E1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777708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000" y="3940560"/>
            <a:ext cx="777708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1A1D4-91BA-4C65-8551-7F3969FA77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200" y="144900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000" y="394056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9200" y="394056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C08D7-775C-4EEF-9AAD-6926B30EA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25038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440" y="1449000"/>
            <a:ext cx="25038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880" y="1449000"/>
            <a:ext cx="25038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000" y="3940560"/>
            <a:ext cx="25038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440" y="3940560"/>
            <a:ext cx="25038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880" y="3940560"/>
            <a:ext cx="25038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F4537-3D4D-41DB-9102-88BDC4A1D2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B9E03-E480-4DB9-BC7D-02105F1730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000" y="1449000"/>
            <a:ext cx="7777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BA0E6-C8E5-4D81-882B-FDA1376CC2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7777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28ACA-A2EE-447F-B0DE-70068AA1F5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37951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200" y="1449000"/>
            <a:ext cx="37951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03A6F-2ACF-4245-9B10-C2FCF6BB1E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F0DB8-9DE2-46E3-9BC5-B5DA4016A1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1640" y="549360"/>
            <a:ext cx="72896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C2780-AD73-44EE-9CCE-F5D58F533C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200" y="1449000"/>
            <a:ext cx="37951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000" y="394056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B08B2-3201-461E-9361-D80BA3E707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000" y="1449000"/>
            <a:ext cx="7777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1A976-0997-4DAF-A521-AC99FB39C6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37951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200" y="144900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9200" y="394056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BC10B-33DC-4060-B619-49C1C5EF5F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200" y="144900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000" y="3940560"/>
            <a:ext cx="777708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E2D02-3B84-4149-B891-A16733CBD4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777708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000" y="3940560"/>
            <a:ext cx="777708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1F1DE-B1B5-4943-B2F4-1EF2A997A3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9200" y="144900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000" y="394056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9200" y="394056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290D1-E076-40E4-8B81-2DB8F1D945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25038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440" y="1449000"/>
            <a:ext cx="25038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2880" y="1449000"/>
            <a:ext cx="25038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000" y="3940560"/>
            <a:ext cx="25038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440" y="3940560"/>
            <a:ext cx="25038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2880" y="3940560"/>
            <a:ext cx="25038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DC66F-0BBD-430B-B405-AE0514572D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7777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35C25-0930-4E53-9F1A-CBF3953C09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37951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200" y="1449000"/>
            <a:ext cx="37951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B6633-4D20-4185-A610-C9FE162A8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86ABD-F0CA-4959-AE56-92118B5CA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1640" y="549360"/>
            <a:ext cx="72896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FF0F1-1A5F-41C0-A728-2ED0553C6B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449000"/>
            <a:ext cx="37951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000" y="394056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2D5DA-C711-4339-8DD7-11A12CC3A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37951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44900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9200" y="394056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2861E-3DB0-421C-A4C4-7A04E5E10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200" y="144900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000" y="3940560"/>
            <a:ext cx="777708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26BA-0A67-478C-BA09-BAC1FCAB0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449000"/>
            <a:ext cx="7777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240" indent="-249120"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08 Eclipse Foundation, Inc.,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8D3E-5C96-4E77-B04F-EC30BA29A9B4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229960" y="7632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37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ddd"/>
                </a:solidFill>
                <a:latin typeface="Arial"/>
              </a:rPr>
              <a:t>Cos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E301-BC96-4BAC-8B1C-6FE82786B4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52A5-7E0E-45C8-8561-36600F869097}" type="datetime3">
              <a:rPr b="0" lang="en-US" sz="1300" spc="-1" strike="noStrike">
                <a:solidFill>
                  <a:srgbClr val="ffffff"/>
                </a:solidFill>
                <a:latin typeface="Arial"/>
              </a:rPr>
              <a:t>July 30, 2026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20920" y="6308640"/>
            <a:ext cx="657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06 Eclipse Foundation, Inc.,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7920" algn="ctr">
              <a:spcBef>
                <a:spcPts val="561"/>
              </a:spcBef>
              <a:spcAft>
                <a:spcPts val="337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ocalhost:8080/COSMOSUI/json?service=org/eclipse/cosmos/internal/dr/drs/service/outputter/DomainOutputter&amp;query=initDM&amp;nodeDecorator=org.eclipse.cosmos.examples.dr.drs.service.outputter.NodeDecorator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COSMOSUI Architecture</a:t>
            </a:r>
            <a:endParaRPr b="0" i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aining Compon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By: Sheldon Lee-Loy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48059-12BB-4B4C-8EE3-5D955591AB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Design Principles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7777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lexibilit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couple functionality from technology to promote reu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cus on extensibility to support future use cas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C229D-B785-4460-A8D8-846F120D72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haining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87880" y="1728720"/>
            <a:ext cx="411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1836360"/>
            <a:ext cx="1160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15120" y="1920960"/>
            <a:ext cx="1405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41320" y="1751040"/>
            <a:ext cx="5253120" cy="662040"/>
          </a:xfrm>
          <a:prstGeom prst="rightArrow">
            <a:avLst>
              <a:gd name="adj1" fmla="val 50000"/>
              <a:gd name="adj2" fmla="val 198369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4033440"/>
            <a:ext cx="2052720" cy="477000"/>
          </a:xfrm>
          <a:prstGeom prst="ellipse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mponent 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228600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228600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227664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4033440"/>
            <a:ext cx="2052360" cy="477000"/>
          </a:xfrm>
          <a:prstGeom prst="ellipse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mponent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95600" y="3261960"/>
            <a:ext cx="2052720" cy="477000"/>
          </a:xfrm>
          <a:prstGeom prst="ellipse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mponent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21960" y="4876920"/>
            <a:ext cx="785520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parate components can be defined to handle the request separate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mponents can be removed or added based on a rudimentary registry mechanis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6165-D6E7-4BC8-8292-A498E582B3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Benefits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7777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ponse Formatting.  Ordering components can change the semantic meaning of the response.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quests go through a “gateway” where security restrictions can be placed on a reques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ad balancing.  Requests can be delegated to different application server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esting.  Requests and responses can be recorded and verifi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F1DE-2F46-4D46-9EDD-719B046280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OSMOS UI Data Feeds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9120" y="2743200"/>
            <a:ext cx="11602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26280" y="2827440"/>
            <a:ext cx="1405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2657520"/>
            <a:ext cx="5253120" cy="662040"/>
          </a:xfrm>
          <a:prstGeom prst="rightArrow">
            <a:avLst>
              <a:gd name="adj1" fmla="val 50000"/>
              <a:gd name="adj2" fmla="val 198369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657240" y="3182760"/>
            <a:ext cx="11160" cy="312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3490560"/>
            <a:ext cx="2052720" cy="477000"/>
          </a:xfrm>
          <a:prstGeom prst="ellipse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eleg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219320"/>
            <a:ext cx="8001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ata feeds receive input from the browser and produces JSON structures consumed by DOJO widg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ata feeds are server side components that integrate with Data Manag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920" y="4339080"/>
            <a:ext cx="2052360" cy="476280"/>
          </a:xfrm>
          <a:prstGeom prst="ellips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ta Feed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71920" y="4339080"/>
            <a:ext cx="2052360" cy="476280"/>
          </a:xfrm>
          <a:prstGeom prst="ellips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ta Feed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15120" y="4339080"/>
            <a:ext cx="2052360" cy="476280"/>
          </a:xfrm>
          <a:prstGeom prst="ellips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ta Feed 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83400" y="434340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1" idx="4"/>
            <a:endCxn id="113" idx="0"/>
          </p:cNvCxnSpPr>
          <p:nvPr/>
        </p:nvCxnSpPr>
        <p:spPr>
          <a:xfrm rot="5400000">
            <a:off x="2376720" y="3012120"/>
            <a:ext cx="353160" cy="22816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11" idx="4"/>
            <a:endCxn id="115" idx="0"/>
          </p:cNvCxnSpPr>
          <p:nvPr/>
        </p:nvCxnSpPr>
        <p:spPr>
          <a:xfrm flipH="1" rot="16200000">
            <a:off x="4891680" y="2778120"/>
            <a:ext cx="353160" cy="2748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11" idx="4"/>
            <a:endCxn id="114" idx="0"/>
          </p:cNvCxnSpPr>
          <p:nvPr/>
        </p:nvCxnSpPr>
        <p:spPr>
          <a:xfrm flipH="1" rot="16200000">
            <a:off x="3520080" y="4149720"/>
            <a:ext cx="353160" cy="5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666880" y="3490560"/>
            <a:ext cx="2052720" cy="477000"/>
          </a:xfrm>
          <a:prstGeom prst="ellipse">
            <a:avLst/>
          </a:prstGeom>
          <a:solidFill>
            <a:srgbClr val="33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eleg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9960" y="5089680"/>
            <a:ext cx="794052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elegator component receives HTTP Request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elegates request to a specific Data Feed based on request in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4339080"/>
            <a:ext cx="2052720" cy="476280"/>
          </a:xfrm>
          <a:prstGeom prst="ellipse">
            <a:avLst/>
          </a:prstGeom>
          <a:solidFill>
            <a:srgbClr val="33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ta Feed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4339080"/>
            <a:ext cx="2052720" cy="476280"/>
          </a:xfrm>
          <a:prstGeom prst="ellipse">
            <a:avLst/>
          </a:prstGeom>
          <a:solidFill>
            <a:srgbClr val="33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ta Feed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4339080"/>
            <a:ext cx="2052720" cy="476280"/>
          </a:xfrm>
          <a:prstGeom prst="ellipse">
            <a:avLst/>
          </a:prstGeom>
          <a:solidFill>
            <a:srgbClr val="33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ta Feed 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105520"/>
            <a:ext cx="794052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ta feeds receive input from the browser and produces JSON structures consumed by DOJO widg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ata feeds are server side components that integrate with Data Manag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Contains logic that is not dependant on the protocol used (i.e. HTTP agnosti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13C03-77B4-4A35-B43D-9EF4840B08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Use Case: Testing COSMOS UI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777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bility to provide test coverage on COSMOS data feed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240" indent="-249120">
              <a:spcBef>
                <a:spcPts val="561"/>
              </a:spcBef>
              <a:spcAft>
                <a:spcPts val="337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are output from data feeds to a known controlled valid outpu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put</a:t>
            </a:r>
            <a:br>
              <a:rPr sz="2000"/>
            </a:br>
            <a:r>
              <a:rPr b="0" lang="en-US" sz="10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http://localhost:8080/COSMOSUI/json?service=org/eclipse/cosmos/internal/dr/drs/service/outputter/DomainOutputter&amp;query=initDM&amp;nodeDecorator=org.eclipse.cosmos.examples.dr.drs.service.outputter.NodeDecorator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240" indent="0">
              <a:spcBef>
                <a:spcPts val="2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{ identifier: "object",  label: "title",  items:[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lvl="1" marL="714240" indent="0">
              <a:spcBef>
                <a:spcPts val="2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{nodeClass:"StatDataManager", title:"StatDataManager", object:"dm0"},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lvl="1" marL="714240" indent="0">
              <a:spcBef>
                <a:spcPts val="2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{nodeClass:"CBEDataManager", title:"LoggingDataManager", object:"dm1"},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lvl="1" marL="714240" indent="0">
              <a:spcBef>
                <a:spcPts val="2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{nodeClass:"mdrCMDBf", title:"Sample Repository with Registration", object:"dm2"},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lvl="1" marL="714240" indent="0">
              <a:spcBef>
                <a:spcPts val="2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{nodeClass:"mdrExample", title:"Sample Repository with Query", object:"dm3"},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lvl="1" marL="714240" indent="0">
              <a:spcBef>
                <a:spcPts val="2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{nodeClass:"mdr", title:"Resource Repository", object:"dm4"}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lvl="1" marL="714240" indent="0">
              <a:spcBef>
                <a:spcPts val="2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]}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5181120"/>
            <a:ext cx="1374840" cy="337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est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5707080"/>
            <a:ext cx="609480" cy="451080"/>
          </a:xfrm>
          <a:prstGeom prst="foldedCorner">
            <a:avLst>
              <a:gd name="adj" fmla="val 12500"/>
            </a:avLst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12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Control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Fi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5802480"/>
            <a:ext cx="609840" cy="451080"/>
          </a:xfrm>
          <a:prstGeom prst="foldedCorner">
            <a:avLst>
              <a:gd name="adj" fmla="val 12500"/>
            </a:avLst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12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Control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Fi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5878440"/>
            <a:ext cx="609480" cy="451080"/>
          </a:xfrm>
          <a:prstGeom prst="foldedCorner">
            <a:avLst>
              <a:gd name="adj" fmla="val 12500"/>
            </a:avLst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12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Control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Fi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62320" y="5181480"/>
            <a:ext cx="2209680" cy="152640"/>
          </a:xfrm>
          <a:prstGeom prst="rightArrow">
            <a:avLst>
              <a:gd name="adj1" fmla="val 50000"/>
              <a:gd name="adj2" fmla="val 36191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5360" y="4419720"/>
            <a:ext cx="27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37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. Request is sent with test inpu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5710320"/>
            <a:ext cx="914400" cy="4510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12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est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Input Fi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5786640"/>
            <a:ext cx="914400" cy="4510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12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est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Input Fi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878440"/>
            <a:ext cx="914400" cy="4510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12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est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Input Fi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5410080"/>
            <a:ext cx="2286000" cy="152640"/>
          </a:xfrm>
          <a:prstGeom prst="leftArrow">
            <a:avLst>
              <a:gd name="adj1" fmla="val 50000"/>
              <a:gd name="adj2" fmla="val 374410"/>
            </a:avLst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600" y="4724280"/>
            <a:ext cx="434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37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. Response is received and compared to control 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" name=""/>
          <p:cNvCxnSpPr/>
          <p:nvPr/>
        </p:nvCxnSpPr>
        <p:spPr>
          <a:xfrm flipV="1">
            <a:off x="6022800" y="5312880"/>
            <a:ext cx="378720" cy="37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0" name=""/>
          <p:cNvCxnSpPr/>
          <p:nvPr/>
        </p:nvCxnSpPr>
        <p:spPr>
          <a:xfrm>
            <a:off x="6022440" y="5349960"/>
            <a:ext cx="531000" cy="1166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" name=""/>
          <p:cNvCxnSpPr/>
          <p:nvPr/>
        </p:nvCxnSpPr>
        <p:spPr>
          <a:xfrm>
            <a:off x="6022800" y="5349960"/>
            <a:ext cx="455040" cy="40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4572000" y="5134680"/>
            <a:ext cx="1447920" cy="433800"/>
          </a:xfrm>
          <a:prstGeom prst="ellipse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37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elega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5058360"/>
            <a:ext cx="1676520" cy="433800"/>
          </a:xfrm>
          <a:prstGeom prst="ellips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37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ata Feed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5134680"/>
            <a:ext cx="1676160" cy="433800"/>
          </a:xfrm>
          <a:prstGeom prst="ellips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37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ata Feed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5210640"/>
            <a:ext cx="1676520" cy="433800"/>
          </a:xfrm>
          <a:prstGeom prst="ellips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37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ata Feed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DD48-9E30-42D4-806B-5AC1866B3D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724280" y="2971800"/>
            <a:ext cx="2514600" cy="1295280"/>
          </a:xfrm>
          <a:prstGeom prst="can">
            <a:avLst>
              <a:gd name="adj" fmla="val 25000"/>
            </a:avLst>
          </a:prstGeom>
          <a:solidFill>
            <a:srgbClr val="dfff66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Use Case: Testing COSMOS UI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181120"/>
            <a:ext cx="1374840" cy="337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est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9" name=""/>
          <p:cNvCxnSpPr/>
          <p:nvPr/>
        </p:nvCxnSpPr>
        <p:spPr>
          <a:xfrm flipV="1">
            <a:off x="6022800" y="5312880"/>
            <a:ext cx="378720" cy="37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0" name=""/>
          <p:cNvCxnSpPr/>
          <p:nvPr/>
        </p:nvCxnSpPr>
        <p:spPr>
          <a:xfrm>
            <a:off x="6022440" y="5349960"/>
            <a:ext cx="531000" cy="1166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1" name=""/>
          <p:cNvCxnSpPr/>
          <p:nvPr/>
        </p:nvCxnSpPr>
        <p:spPr>
          <a:xfrm>
            <a:off x="6022800" y="5349960"/>
            <a:ext cx="455040" cy="40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6248520" y="3497400"/>
            <a:ext cx="609480" cy="451080"/>
          </a:xfrm>
          <a:prstGeom prst="foldedCorner">
            <a:avLst>
              <a:gd name="adj" fmla="val 12500"/>
            </a:avLst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12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Control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Fi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592440"/>
            <a:ext cx="609840" cy="451080"/>
          </a:xfrm>
          <a:prstGeom prst="foldedCorner">
            <a:avLst>
              <a:gd name="adj" fmla="val 12500"/>
            </a:avLst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12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Control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Fi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3668760"/>
            <a:ext cx="609480" cy="451080"/>
          </a:xfrm>
          <a:prstGeom prst="foldedCorner">
            <a:avLst>
              <a:gd name="adj" fmla="val 12500"/>
            </a:avLst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12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Control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Fi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5181480"/>
            <a:ext cx="2209680" cy="152640"/>
          </a:xfrm>
          <a:prstGeom prst="rightArrow">
            <a:avLst>
              <a:gd name="adj1" fmla="val 50000"/>
              <a:gd name="adj2" fmla="val 36191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3500640"/>
            <a:ext cx="914400" cy="4510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12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est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Input Fi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3576600"/>
            <a:ext cx="914400" cy="4510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12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est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Input Fi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3668760"/>
            <a:ext cx="914400" cy="4510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12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est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Input Fi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5410080"/>
            <a:ext cx="2286000" cy="152640"/>
          </a:xfrm>
          <a:prstGeom prst="leftArrow">
            <a:avLst>
              <a:gd name="adj1" fmla="val 50000"/>
              <a:gd name="adj2" fmla="val 374410"/>
            </a:avLst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9120" y="1362240"/>
            <a:ext cx="11602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26280" y="1446120"/>
            <a:ext cx="14050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1276200"/>
            <a:ext cx="5253120" cy="662040"/>
          </a:xfrm>
          <a:prstGeom prst="rightArrow">
            <a:avLst>
              <a:gd name="adj1" fmla="val 50000"/>
              <a:gd name="adj2" fmla="val 198369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579400" y="1820880"/>
            <a:ext cx="11160" cy="312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2129400"/>
            <a:ext cx="2052720" cy="476280"/>
          </a:xfrm>
          <a:prstGeom prst="ellipse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eleg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958120"/>
            <a:ext cx="2052720" cy="476280"/>
          </a:xfrm>
          <a:prstGeom prst="ellips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ta Feed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2958120"/>
            <a:ext cx="2052720" cy="476280"/>
          </a:xfrm>
          <a:prstGeom prst="ellips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ta Feed 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59200" y="296244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4"/>
            <a:endCxn id="165" idx="0"/>
          </p:cNvCxnSpPr>
          <p:nvPr/>
        </p:nvCxnSpPr>
        <p:spPr>
          <a:xfrm rot="5400000">
            <a:off x="1621440" y="2019240"/>
            <a:ext cx="334080" cy="1524600"/>
          </a:xfrm>
          <a:prstGeom prst="bentConnector3">
            <a:avLst>
              <a:gd name="adj1" fmla="val 49946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64" idx="4"/>
            <a:endCxn id="166" idx="0"/>
          </p:cNvCxnSpPr>
          <p:nvPr/>
        </p:nvCxnSpPr>
        <p:spPr>
          <a:xfrm flipH="1" rot="16200000">
            <a:off x="2841480" y="2323800"/>
            <a:ext cx="334080" cy="915120"/>
          </a:xfrm>
          <a:prstGeom prst="bentConnector3">
            <a:avLst>
              <a:gd name="adj1" fmla="val 499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70" name=""/>
          <p:cNvSpPr/>
          <p:nvPr/>
        </p:nvSpPr>
        <p:spPr>
          <a:xfrm>
            <a:off x="4114800" y="1957320"/>
            <a:ext cx="2052720" cy="820440"/>
          </a:xfrm>
          <a:prstGeom prst="ellipse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est Recor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169960" y="1820880"/>
            <a:ext cx="11160" cy="312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70" idx="4"/>
            <a:endCxn id="146" idx="1"/>
          </p:cNvCxnSpPr>
          <p:nvPr/>
        </p:nvCxnSpPr>
        <p:spPr>
          <a:xfrm flipH="1" rot="16200000">
            <a:off x="5382360" y="2373120"/>
            <a:ext cx="357840" cy="840600"/>
          </a:xfrm>
          <a:prstGeom prst="bentConnector3">
            <a:avLst>
              <a:gd name="adj1" fmla="val 47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48" idx="0"/>
            <a:endCxn id="146" idx="3"/>
          </p:cNvCxnSpPr>
          <p:nvPr/>
        </p:nvCxnSpPr>
        <p:spPr>
          <a:xfrm flipH="1" flipV="1" rot="5400000">
            <a:off x="3219840" y="2419560"/>
            <a:ext cx="915120" cy="4609440"/>
          </a:xfrm>
          <a:prstGeom prst="bentConnector3">
            <a:avLst>
              <a:gd name="adj1" fmla="val 4998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4572000" y="5134680"/>
            <a:ext cx="1447920" cy="433800"/>
          </a:xfrm>
          <a:prstGeom prst="ellipse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37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elega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00800" y="5058360"/>
            <a:ext cx="1676520" cy="433800"/>
          </a:xfrm>
          <a:prstGeom prst="ellips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37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ata Feed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5134680"/>
            <a:ext cx="1676160" cy="433800"/>
          </a:xfrm>
          <a:prstGeom prst="ellips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37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ata Feed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5210640"/>
            <a:ext cx="1676520" cy="433800"/>
          </a:xfrm>
          <a:prstGeom prst="ellips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37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ata Feed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C77D7-41F6-4784-888C-39FCE05FE5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onfiguration Option WEB.xml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7777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&lt;servlet&gt;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&lt;description&gt;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&lt;/description&gt;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&lt;display-name&gt;json&lt;/display-name&gt;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&lt;servlet-name&gt;json&lt;/servlet-name&gt;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&lt;servlet-class&gt;org.eclipse.cosmos.internal.dr.drs.service.handler.common.URLDelegator&lt;/servlet-class&gt;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&lt;/servlet&gt;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&lt;context-param&gt;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&lt;param-name&gt;DELEGATORS&lt;/param-name&gt;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&lt;param-value&gt;org.eclipse.cosmos.Delegate1, org.eclipse.cosmos.Delegate3, org.eclipse.cosmos.Delegate2&lt;/param-value&gt;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&lt;/context-param&gt;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2362320"/>
            <a:ext cx="4191120" cy="228600"/>
          </a:xfrm>
          <a:prstGeom prst="rect">
            <a:avLst/>
          </a:prstGeom>
          <a:solidFill>
            <a:srgbClr val="99cc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2000" y="4098960"/>
            <a:ext cx="419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rvlet that manages the component ch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4960" y="4495680"/>
            <a:ext cx="451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lasses that implement individual compon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3352680"/>
            <a:ext cx="5257800" cy="228600"/>
          </a:xfrm>
          <a:prstGeom prst="rect">
            <a:avLst/>
          </a:prstGeom>
          <a:solidFill>
            <a:srgbClr val="99cc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652B3-658A-440E-B7DE-570DF25385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IServletHandler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7777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ackage org.eclipse.cosmos.provisional.dr.drs.service.handler.common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mport java.io.IOException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mport java.io.StringWriter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mport javax.servlet.ServletConfig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mport javax.servlet.ServletException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mport javax.servlet.http.HttpServletReques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ublic interface IServletHandler {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ublic void doGet(HttpServletRequest req, StringWriter resp) throws ServletException, IOException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ublic void doPost(HttpServletRequest req, StringWriter resp) throws ServletException, IOException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ublic void destroy()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ublic void init() throws ServletException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ublic void init(ServletConfig config) throws ServletException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C2467-AF71-4726-BF6A-B33CB6AEB0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7:17:44Z</dcterms:created>
  <dc:creator>Labuser</dc:creator>
  <dc:description/>
  <dc:language>en-US</dc:language>
  <cp:lastModifiedBy>Labuser</cp:lastModifiedBy>
  <dcterms:modified xsi:type="dcterms:W3CDTF">2008-04-23T19:07:17Z</dcterms:modified>
  <cp:revision>10</cp:revision>
  <dc:subject/>
  <dc:title>Slide 1</dc:title>
</cp:coreProperties>
</file>